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763-4CD4-47F7-887B-FBAADA9B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040-E33C-4E9E-B94B-3970D4D3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2C874-C89C-4AB2-9E9D-88A3A4B7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9CE04-99FF-4891-9861-ED7A81E1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49EBC-C6EB-4EED-8DBB-05866452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D5598-872F-43C7-8AEB-6CF0C4DF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348DF-9454-4D2D-8DD1-2ACDD898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D0A2F-DEBA-49C5-BD43-9306F95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60C46-6379-4F2F-AA1F-680C428B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E0536-26E8-4A43-AC1F-C8D27CBA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3A1F3-A2A1-41D7-BA5F-14F706CD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47F-AEB8-4EFA-98D2-8B93C347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600-ED1F-4B49-869B-1360D97C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0CD8-764D-4C03-8918-14862FE1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3533-35CF-471C-9112-618096BD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BC8E-40A8-494E-83F2-1A5128D5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75F3-B022-48BD-A7F7-6E537F11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28B2-2CD5-477D-A4E0-374AA3CD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FC0B-7142-484C-96BE-84C75AC6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969B-795A-450A-9B60-1B2AC17A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3B0-6A39-4C20-8F77-2A46DB37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7BD1-9820-4235-A36B-11047EFC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BEEC-0233-4ED0-B989-170513A3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5F52-90B3-499F-AEDA-95AC35E5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DD57-51AE-4F12-AC96-E653BBEE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0296-E610-4512-BB31-BA7B2E71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2230-2326-405B-B834-13328105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F858-E59D-40EC-928D-82FC8234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D556-111B-4525-BE28-BFB3C84C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1264-4097-4AE8-A535-87C43B7C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9FD12-C8C5-46EF-8648-7CE71320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C1B-3265-4865-9300-83950D3B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85C1-D86F-45CD-B7CF-04821D28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7198-F0D3-4374-9D9C-EE894937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7A73D-D1DC-429E-8575-AA07E3FD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5484C-D880-43BB-9430-364B0339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8C46-D62A-4CD9-9442-338A4B5B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85E3-5725-4A13-A76C-98068B4F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CB22-05C4-4F68-AC47-C8C9D564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DBC6E-6102-4035-96F3-95B3C3B1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424F88-2DC7-4460-B5CB-085A67A9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F5687D-FCC8-49EA-BC5B-F6307948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D69-6A24-48ED-AB71-F17C6065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635E9-0CD2-412A-920A-4F900A41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FD854F-F54D-4139-AB3D-14FDF8EF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9F263F-9A5E-4D9B-8E82-3CB65E90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ACB68-7153-44D2-9BB4-C08D7BF8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2D7C0-3A69-403E-8832-60BCF012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1FCC76-E193-4A90-91CB-F8CD0949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93B9AF-D95F-4D73-81CD-9C340F08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482670-4D54-4D64-9978-0646F5A4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7E9EC-4113-494D-93A8-3B82A753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10983-5215-49B0-9E18-F3942EF0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0A1D-5E4D-4290-BD42-47780E6C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5AFFC-F155-4743-93B5-11C6A9C2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C36372-67C3-4D3E-8A70-FB1FC600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265A6-3C09-4650-A081-BAFF1109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AF48C-22A1-4C6F-8173-D27BA821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D0835-BBA8-4403-A2EA-ED4182A8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47B88-C1CC-472E-9892-E4EA34D3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CD7BE-EEA1-4D7B-A33F-E874DDD1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B514F-D4D6-4296-9771-4EE07695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0C978-1C72-4705-B4CB-6D6170BF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9785C-104B-4741-B9FA-89FD1B40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FF2-6041-4989-B13B-F9E19288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A01DF-D167-4893-A500-DA678518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C81DF-C898-4F4C-95AC-3BA8B2AF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1C55A-57AF-4E4E-8691-4DFE62CA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153C0B-0C94-4CA8-BB9A-EF4905B6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355BF0-2BFD-4582-AFB6-696DA4DA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EE667-812D-4323-81FC-C89BF6AE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7E402B-9FD4-4ED4-8A6F-51A944BF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F6473-47A5-46D4-9F66-78008CC2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53A73-54A4-4BE4-B777-BDE93585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04429D-E8CE-4701-87C6-ED35AC99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70F-A3B6-4044-92BE-9D7BF04B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ACF19-50B0-4273-BBF9-E047F8C8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F6800-9B71-4A65-A13A-444B10B4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5B347-807E-4B91-8EC5-F8D9238A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83785-84E4-4CDD-B909-687B7B45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1E817-51FD-42C9-B1A0-E02A9BBC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930B1-CC5C-42E4-A334-A7D7CB50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E166E-A062-4986-A0F6-93A979A7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60D2D-B106-4683-A9DC-A91E9A12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E8265-0B73-45C1-AEE5-02A23271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09490-FC39-4CF5-807E-FCEFA170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C70-FA9B-4917-A858-EE2969E8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102E0-144E-4778-9B59-BD01501A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6C107-2E5B-4ECE-86ED-81AB272F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4BBCC-F69F-4DF6-A6B2-4730BF08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4EB9F-BE1B-49BD-A0D7-C78B0F97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D41A4-8C3D-4610-A73C-CDD8E871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4AF62A-F75A-4AA4-BBB9-E19A6EE3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FE8A6F-FAF5-4CFE-B6D4-E0B882FC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1AC846-95D3-4293-9990-F41D9A7F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73534A-F155-40CF-81C8-29355121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4C2D56-7ED6-4027-BDA1-95EE894B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274-797B-4778-987B-D7E190C5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DF50A7-88EC-454C-8BE8-C19BDD8E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62D495-23E7-4C5A-8708-322A465B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F96E9-6ED8-4F7D-9F73-0F092113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53FA60-0426-4DD9-9AF1-A897B9CE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5A38C1-FB5F-4D21-AF0A-6F0B4110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D15CD9-74C0-4EEC-848A-FF1F555C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031228-AEDD-4E07-9243-31518B4E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67E8F-87D2-4FFF-9ADB-E9DDE046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679B6-FE0D-4BD2-AAFA-BD1F2520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14546-25EA-45F7-9F12-A36DC057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CA38-12DE-4516-89F3-F44F7EAFC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A6EE-257D-4925-B82B-60F8037332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e5d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7F0B-7504-4731-B27A-C1EC43034385}" type="slidenum">
              <a:rPr b="1" lang="en-US" sz="14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B5F3-CDF3-4F1A-9EBC-E5DA2EB74B8F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8B04-C175-4F4E-A86E-109FBDE0E9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389F-734F-450F-AAE0-FD5892A2FD1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7D44-AD60-4F43-98CC-F68C9D245ACA}" type="slidenum">
              <a:rPr b="1" lang="en-US" sz="14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sldNum" idx="2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384B-2DF3-4A8A-8027-2F65A373931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b2d1f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3481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9b2d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a28e6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956251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7F71-FDC2-4EA9-B8B9-0C4669B5EA5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Someone in the U.S. who is not a Citizen is either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Palatino Linotype"/>
              </a:rPr>
              <a:t>Immigra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Palatino Linotype"/>
              </a:rPr>
              <a:t>or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Palatino Linotype"/>
              </a:rPr>
              <a:t>Nonimmig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alatino Linotype"/>
              </a:rPr>
              <a:t>How would someone gain citizenshi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Palatino Linotype"/>
              </a:rPr>
              <a:t>A note about Family Reunification – The WA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 length of the wait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whether the sponsor is a citizen or Lawful Permanent Res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what country the relative is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type of relationship (ex: spouse comes sooner than a broth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A lawful permanent resident who wants to bring her husband and 2-year-old daughter from Mexico will have to wait approximately 5-6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r a citizen to sponsor his brother from the Philippines it will 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7" descr="wait in line"/>
          <p:cNvPicPr/>
          <p:nvPr/>
        </p:nvPicPr>
        <p:blipFill>
          <a:blip r:embed="rId1"/>
          <a:stretch/>
        </p:blipFill>
        <p:spPr>
          <a:xfrm>
            <a:off x="304920" y="2133720"/>
            <a:ext cx="3774960" cy="3124080"/>
          </a:xfrm>
          <a:prstGeom prst="rect">
            <a:avLst/>
          </a:prstGeom>
          <a:ln w="0">
            <a:noFill/>
          </a:ln>
        </p:spPr>
      </p:pic>
      <p:sp>
        <p:nvSpPr>
          <p:cNvPr id="425" name="WordArt 21"/>
          <p:cNvSpPr txBox="1"/>
          <p:nvPr/>
        </p:nvSpPr>
        <p:spPr>
          <a:xfrm>
            <a:off x="5943600" y="5867280"/>
            <a:ext cx="1695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3 Years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Palatino Linotype"/>
              </a:rPr>
              <a:t>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Roughly 15% of immigrants come to fill positions where there is a shortage of U.S. workers (ex: nurses, computer enginee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Every year there are some visas that are given to professionals with advanced degrees and skilled workers.  The employer must prove that they can’t find a worker domest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re are very few visas offered to unskilled workers though there are many businesses that have a shortage of these workers.  Available jobs without available visas cause a rise in undocumented immig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6" descr="nurse_pic"/>
          <p:cNvPicPr/>
          <p:nvPr/>
        </p:nvPicPr>
        <p:blipFill>
          <a:blip r:embed="rId1"/>
          <a:stretch/>
        </p:blipFill>
        <p:spPr>
          <a:xfrm>
            <a:off x="457200" y="533520"/>
            <a:ext cx="2019240" cy="3251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programmer"/>
          <p:cNvPicPr/>
          <p:nvPr/>
        </p:nvPicPr>
        <p:blipFill>
          <a:blip r:embed="rId2"/>
          <a:stretch/>
        </p:blipFill>
        <p:spPr>
          <a:xfrm>
            <a:off x="2514600" y="2209680"/>
            <a:ext cx="1981080" cy="30481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middle-east-board"/>
          <p:cNvPicPr/>
          <p:nvPr/>
        </p:nvPicPr>
        <p:blipFill>
          <a:blip r:embed="rId3"/>
          <a:stretch/>
        </p:blipFill>
        <p:spPr>
          <a:xfrm>
            <a:off x="304920" y="3886200"/>
            <a:ext cx="1904760" cy="2666880"/>
          </a:xfrm>
          <a:prstGeom prst="rect">
            <a:avLst/>
          </a:prstGeom>
          <a:ln w="0">
            <a:noFill/>
          </a:ln>
        </p:spPr>
      </p:pic>
      <p:sp>
        <p:nvSpPr>
          <p:cNvPr id="431" name="Ink 25"/>
          <p:cNvSpPr/>
          <p:nvPr/>
        </p:nvSpPr>
        <p:spPr>
          <a:xfrm>
            <a:off x="40963680" y="2676204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21034" y="13742"/>
                </a:moveTo>
                <a:lnTo>
                  <a:pt x="21034" y="13742"/>
                </a:lnTo>
                <a:close/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Palatino Linotype"/>
              </a:rPr>
              <a:t>Fleeing Persec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Roughly 15% of immigrants come as refugees fleeing persec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 U.S. accepts refugees and asylees who are fleeing persecution based on race, ethnicity, nationality, religion, gender, political opinion or membership in a social gro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7" descr="war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Palatino Linotype"/>
              </a:rPr>
              <a:t>Diversity Visa L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4419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Each year there is a green card lottery to welcome immigrants from countries from which the U.S. receives immigrants at lower r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 applicant must have a high school diploma or have a specific ability/trade.  Their immediate family can come to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re will be </a:t>
            </a:r>
            <a:r>
              <a:rPr b="1" i="1" lang="en-US" sz="2000" spc="-1" strike="noStrike">
                <a:solidFill>
                  <a:srgbClr val="33cc33"/>
                </a:solidFill>
                <a:latin typeface="Palatino Linotype"/>
              </a:rPr>
              <a:t>visas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given out in the lot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eople from countries that have sent more than 50,000 people in the last 5 years are </a:t>
            </a:r>
            <a:r>
              <a:rPr b="0" lang="en-US" sz="2000" spc="-1" strike="noStrike">
                <a:solidFill>
                  <a:srgbClr val="ff3300"/>
                </a:solidFill>
                <a:latin typeface="Palatino Linotype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eligible.  This includes Mexico, El Salvador, China, the Philippines, England, India and other n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e chance of winning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Picture 6" descr="lottery family"/>
          <p:cNvPicPr/>
          <p:nvPr/>
        </p:nvPicPr>
        <p:blipFill>
          <a:blip r:embed="rId1"/>
          <a:srcRect l="0" t="0" r="0" b="13665"/>
          <a:stretch/>
        </p:blipFill>
        <p:spPr>
          <a:xfrm>
            <a:off x="5178600" y="1981080"/>
            <a:ext cx="3203280" cy="3048120"/>
          </a:xfrm>
          <a:prstGeom prst="rect">
            <a:avLst/>
          </a:prstGeom>
          <a:ln w="0">
            <a:noFill/>
          </a:ln>
        </p:spPr>
      </p:pic>
      <p:sp>
        <p:nvSpPr>
          <p:cNvPr id="438" name="WordArt 18"/>
          <p:cNvSpPr txBox="1"/>
          <p:nvPr/>
        </p:nvSpPr>
        <p:spPr>
          <a:xfrm>
            <a:off x="3886200" y="5562720"/>
            <a:ext cx="7621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0.8%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Lawful Permanent Residents may become U.S. Citiz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457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Eligible immigrants may choose to go through the proce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o become a U.S. citiz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5" descr="citizenship cer"/>
          <p:cNvPicPr/>
          <p:nvPr/>
        </p:nvPicPr>
        <p:blipFill>
          <a:blip r:embed="rId1"/>
          <a:stretch/>
        </p:blipFill>
        <p:spPr>
          <a:xfrm>
            <a:off x="4724280" y="1828800"/>
            <a:ext cx="3657600" cy="4276800"/>
          </a:xfrm>
          <a:prstGeom prst="rect">
            <a:avLst/>
          </a:prstGeom>
          <a:ln w="0">
            <a:noFill/>
          </a:ln>
        </p:spPr>
      </p:pic>
      <p:sp>
        <p:nvSpPr>
          <p:cNvPr id="442" name="WordArt 7"/>
          <p:cNvSpPr txBox="1"/>
          <p:nvPr/>
        </p:nvSpPr>
        <p:spPr>
          <a:xfrm>
            <a:off x="914400" y="3352680"/>
            <a:ext cx="26668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naturaliz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7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5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o become a Naturalized Citizen You Mu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648320" y="1905120"/>
            <a:ext cx="3809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Have a green card (5 yea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Be physically present in  the U.S. for 2.5 ye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ay an application fee of nearly $4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ass the citizenship te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Pass the interview in Engl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wear to the judge you will follow the laws of the U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Be of good moral charac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7" descr="naturalization"/>
          <p:cNvPicPr/>
          <p:nvPr/>
        </p:nvPicPr>
        <p:blipFill>
          <a:blip r:embed="rId1"/>
          <a:stretch/>
        </p:blipFill>
        <p:spPr>
          <a:xfrm>
            <a:off x="304920" y="1752480"/>
            <a:ext cx="4190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1"/>
          <p:cNvSpPr/>
          <p:nvPr/>
        </p:nvSpPr>
        <p:spPr>
          <a:xfrm>
            <a:off x="1295280" y="1143000"/>
            <a:ext cx="66294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The Immigration Deb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mmigration is a front-page news s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debate centers ar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The present undocumented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Future immigration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The costs and benefits of im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The cultural impact of im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Family reu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Border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-Knowing who’s within our b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32"/>
          <p:cNvSpPr/>
          <p:nvPr/>
        </p:nvSpPr>
        <p:spPr>
          <a:xfrm>
            <a:off x="838080" y="304920"/>
            <a:ext cx="746784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8"/>
          <p:cNvSpPr/>
          <p:nvPr/>
        </p:nvSpPr>
        <p:spPr>
          <a:xfrm>
            <a:off x="609480" y="2057400"/>
            <a:ext cx="3733920" cy="4267080"/>
          </a:xfrm>
          <a:prstGeom prst="rect">
            <a:avLst/>
          </a:prstGeom>
          <a:solidFill>
            <a:srgbClr val="ffffff"/>
          </a:solidFill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alatino Linotype"/>
              </a:rPr>
              <a:t>Fact:  Immigrants contribute positively to our n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Fill Labo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ay 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dd 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hare New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nrich the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ffset an Aging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rengthen our Global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10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1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4648320" y="1219320"/>
            <a:ext cx="3809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y being BORN in the U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y being born to a U.S. citizen parent or having your parent become a citizen (before you turn 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Naturalization (more about this process la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4" descr="Citizen"/>
          <p:cNvPicPr/>
          <p:nvPr/>
        </p:nvPicPr>
        <p:blipFill>
          <a:blip r:embed="rId1"/>
          <a:stretch/>
        </p:blipFill>
        <p:spPr>
          <a:xfrm>
            <a:off x="228600" y="1295280"/>
            <a:ext cx="4268880" cy="5334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Ways to Citiz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mmigra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igrants settle in a country intending to stay there permanently and become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ome categories of immigran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awful permanent res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fug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syl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6" descr="flag-immigrants"/>
          <p:cNvPicPr/>
          <p:nvPr/>
        </p:nvPicPr>
        <p:blipFill>
          <a:blip r:embed="rId1"/>
          <a:stretch/>
        </p:blipFill>
        <p:spPr>
          <a:xfrm>
            <a:off x="4267080" y="1905120"/>
            <a:ext cx="44960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Palatino Linotype"/>
              </a:rPr>
              <a:t>Lawful Permanent Resi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Lawful permanent resident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have permission to remain in the US for as long as they choose and remain crime f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y must renew their </a:t>
            </a:r>
            <a:r>
              <a:rPr b="1" lang="en-US" sz="2800" spc="-1" strike="noStrike">
                <a:solidFill>
                  <a:srgbClr val="33cc33"/>
                </a:solidFill>
                <a:latin typeface="Palatino Linotype"/>
              </a:rPr>
              <a:t>green card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very 10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4" descr="LPR"/>
          <p:cNvPicPr/>
          <p:nvPr/>
        </p:nvPicPr>
        <p:blipFill>
          <a:blip r:embed="rId1"/>
          <a:stretch/>
        </p:blipFill>
        <p:spPr>
          <a:xfrm>
            <a:off x="631800" y="1523880"/>
            <a:ext cx="4006800" cy="5105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609480" y="1523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aw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hat is the difference between a </a:t>
            </a:r>
            <a:r>
              <a:rPr b="1" lang="en-US" sz="4000" spc="-1" strike="noStrike">
                <a:solidFill>
                  <a:srgbClr val="ff0000"/>
                </a:solidFill>
                <a:latin typeface="Palatino Linotype"/>
              </a:rPr>
              <a:t>refugee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 and an</a:t>
            </a:r>
            <a:r>
              <a:rPr b="1" lang="en-US" sz="4000" spc="-1" strike="noStrike">
                <a:solidFill>
                  <a:srgbClr val="3333cc"/>
                </a:solidFill>
                <a:latin typeface="Palatino Linotype"/>
              </a:rPr>
              <a:t> asyle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fugee receives permission to come to the U.S. from outside of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Refugees are resettled with the help of a refugee resettlement ag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 asylee is already in the U.S. and once here applies for prot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sylees have to prove that they have reason to fear persecution in their home countr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Palatino Linotype"/>
              </a:rPr>
              <a:t>Non-immig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9520" y="182880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emporary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Vi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thers</a:t>
            </a:r>
            <a:r>
              <a:rPr b="0" lang="en-US" sz="2400" spc="-1" strike="noStrike">
                <a:solidFill>
                  <a:srgbClr val="3333cc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y be in the United States temporarily.  Their visas allow them to stay only for a limited amount of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7" descr="student visa"/>
          <p:cNvPicPr/>
          <p:nvPr/>
        </p:nvPicPr>
        <p:blipFill>
          <a:blip r:embed="rId1"/>
          <a:stretch/>
        </p:blipFill>
        <p:spPr>
          <a:xfrm>
            <a:off x="457200" y="3886200"/>
            <a:ext cx="3124080" cy="2181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business"/>
          <p:cNvPicPr/>
          <p:nvPr/>
        </p:nvPicPr>
        <p:blipFill>
          <a:blip r:embed="rId2"/>
          <a:stretch/>
        </p:blipFill>
        <p:spPr>
          <a:xfrm>
            <a:off x="7162920" y="3657600"/>
            <a:ext cx="1693800" cy="2971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Disneyworld2"/>
          <p:cNvPicPr/>
          <p:nvPr/>
        </p:nvPicPr>
        <p:blipFill>
          <a:blip r:embed="rId3"/>
          <a:stretch/>
        </p:blipFill>
        <p:spPr>
          <a:xfrm>
            <a:off x="7010280" y="838080"/>
            <a:ext cx="1809720" cy="2362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11" descr="students"/>
          <p:cNvPicPr/>
          <p:nvPr/>
        </p:nvPicPr>
        <p:blipFill>
          <a:blip r:embed="rId4"/>
          <a:stretch/>
        </p:blipFill>
        <p:spPr>
          <a:xfrm>
            <a:off x="533520" y="1143000"/>
            <a:ext cx="190476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alatino Linotype"/>
              </a:rPr>
              <a:t>Undocumented Immigr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53352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Undocumented immigrants may have entered the U.S. without showing a visa or green c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They may be here with expired pap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They do not have documents that allow them to stay in the U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Palatino Linotype"/>
              </a:rPr>
              <a:t>Can anyone who wants to become a citizen become 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Palatino Linotype"/>
              </a:rPr>
              <a:t>No, first somebody has to have a green c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Palatino Linotype"/>
              </a:rPr>
              <a:t>Then how do you get a green c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Palatino Linotype"/>
              </a:rPr>
              <a:t>Only a few ways, and not everybody is eligible for 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Palatino Linotype"/>
              </a:rPr>
              <a:t>Here are the four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4" descr="greencard2004"/>
          <p:cNvPicPr/>
          <p:nvPr/>
        </p:nvPicPr>
        <p:blipFill>
          <a:blip r:embed="rId1"/>
          <a:stretch/>
        </p:blipFill>
        <p:spPr>
          <a:xfrm>
            <a:off x="5334120" y="4419720"/>
            <a:ext cx="3429000" cy="20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500" autoRev="1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Times New Roman"/>
              </a:rPr>
              <a:t>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Roughly 70% of immigrants come to be reunited with fami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U.S. citizen adults can sponsor family members (spouse, parent, child or siblin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Lawful Permanent Residents can sponsor their spouse and any  unmarried child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Picture 7" descr="family in kitchen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657600"/>
          </a:xfrm>
          <a:prstGeom prst="rect">
            <a:avLst/>
          </a:prstGeom>
          <a:ln w="0">
            <a:noFill/>
          </a:ln>
        </p:spPr>
      </p:pic>
      <p:sp>
        <p:nvSpPr>
          <p:cNvPr id="420" name="Ink 8"/>
          <p:cNvSpPr/>
          <p:nvPr/>
        </p:nvSpPr>
        <p:spPr>
          <a:xfrm>
            <a:off x="4346640" y="2869416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2232" y="14734"/>
                </a:moveTo>
                <a:lnTo>
                  <a:pt x="2232" y="14734"/>
                </a:lnTo>
                <a:close/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Ink 9"/>
          <p:cNvSpPr/>
          <p:nvPr/>
        </p:nvSpPr>
        <p:spPr>
          <a:xfrm>
            <a:off x="42656040" y="1888812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21903" y="9699"/>
                </a:moveTo>
                <a:lnTo>
                  <a:pt x="21903" y="9699"/>
                </a:lnTo>
                <a:close/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1:25:08Z</dcterms:created>
  <dc:creator>l</dc:creator>
  <dc:description/>
  <dc:language>en-US</dc:language>
  <cp:lastModifiedBy>hberndt</cp:lastModifiedBy>
  <dcterms:modified xsi:type="dcterms:W3CDTF">2008-12-12T17:32:48Z</dcterms:modified>
  <cp:revision>55</cp:revision>
  <dc:subject/>
  <dc:title>PowerPoint Presentation</dc:title>
</cp:coreProperties>
</file>